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0AB-0502-4189-9919-F0A1C331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760-B932-4798-BCE2-9C21687D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42B-BA51-4D97-9D87-244C0004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C71-5853-4FEA-96AE-CC9D49D3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CEE-9F14-4C91-87C5-EE7D166F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2EF-FC79-4F7C-9FD4-D3029AC9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AD2-44F0-41D1-9279-AD8D6C2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641-866F-4C72-BE7D-DE8E7C06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C52-E52D-4873-BCEE-A3721810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8E7-0CA9-4D18-B70B-068919B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956-5460-46C1-AAA1-9318704E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940-9247-417D-B69A-F698A02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FC0-5869-4138-86D5-288AB2B4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outhAmericaSpace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ou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ile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sored by O’Reilly aut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t valid in South Amer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of about 382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6% of the world’s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races are very d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12 nations and 3 terr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person_climbing_stairs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ollar-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Currency of $2,865 tr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heavily on exporting goods like sugarcane, Coffee, and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il exports about $137.8 billion a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occer-boys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otball (soccer) is the most popular sport in South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th American teams have a total of 9 world cups in soccer. Brazil owning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th America will host its first Olympic games at Rio de Janeiro in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sports include Basketball, Rugby union, Tennis, Golf, Volleyball, Hockey, Beach Volleyball, Baseball, and many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continent i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continent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people per square 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nly 2 countries that do not border Brazil. Chile and Ecu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9:23:52Z</dcterms:created>
  <dc:creator>Classroom/Lab</dc:creator>
  <dc:description/>
  <dc:language>en-US</dc:language>
  <cp:lastModifiedBy>JSEAQUIS</cp:lastModifiedBy>
  <dcterms:modified xsi:type="dcterms:W3CDTF">2011-03-21T15:57:45Z</dcterms:modified>
  <cp:revision>2</cp:revision>
  <dc:subject/>
  <dc:title>South America</dc:title>
</cp:coreProperties>
</file>